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000000"/>
                </a:solidFill>
                <a:uFillTx/>
                <a:latin typeface="Tahoma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E6E-97CE-4DD7-9324-6E91B6FFDF6D}" type="slidenum">
              <a:rPr b="0" lang="fi-FI" sz="1200" spc="-1" strike="noStrike" u="sng">
                <a:solidFill>
                  <a:srgbClr val="000000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1A58-5C11-4820-A115-337FC533B5AF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7B6-8780-4ECD-8C98-0B131C6021A6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52E8-7819-4F7A-BB84-2CA5F3858CAE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AFE9-106D-40E6-A7F3-5BC4642D4744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81C-C202-48D1-BEC4-6C82ED2CCCB0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2566-FCF3-4FFD-B38F-1F1FE993F226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139-E545-4E4B-B33F-F9B9141AA6F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FC5-91F9-4702-B23C-047C0D4A893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4EC-93F7-4305-A382-F155BB70298A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2EB-F84A-4EC2-B8EA-8FB89A47BF6F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F63-C8E5-41B6-9013-B64481442824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741-E7D5-4701-8C9A-5293B76B0B44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69D-4F7E-4DCF-B02E-28F226C1DB7E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055-6237-4969-BD76-DE128A12C475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85D-92D9-49B0-BD11-920AEFFF10D2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077F-9EDE-48FA-89DE-01A96463424A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2B4-670B-4289-8F32-1826EB518A16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3A8-65D0-4271-8D52-AA627FBB672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1C5-9D98-4275-9B31-CC466B96825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5C05-A29B-433B-A25E-BF117450A1BF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DAF-E997-41E8-A792-80515D87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DE2-0C04-4350-8F75-4725ABE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22A-9BE2-4635-92F3-07351EA4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6FF-6A8D-41A4-99AE-3F19880E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554-4302-40B6-A057-AE488781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CCE3-26B9-49B9-A07D-954EB12F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F67-9190-4164-9950-D26993A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6115-84E1-4608-B923-ACCAE0C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E8B2-7CE2-4CF4-8547-63BFB65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5AB1-A5C5-4209-AF24-8F690023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758A-8AF6-43BC-9FAA-B95876D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1D0-8541-4EBF-8241-A3CE3005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903F-F783-44F5-BF2F-75E0383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F7E9-474E-4507-874E-568B96D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2D5E-8079-4F1B-B320-4CB3397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F30-1C4F-40B2-92C0-25F132EB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346-AF48-48E3-9F8B-CA1C1FD6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4552-9AF0-4BE8-B749-7F982642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C554-6F3B-417B-B07D-790459C9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5565-FDFB-47DF-8955-09D7C05C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22EA-9C94-45E8-9EB9-27C320F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66DF-1B8E-4388-B972-57070AF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CCC-025C-4A36-B3DA-D774B428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CFF3-3F5A-40AB-ABCE-BAAE196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3925-AC29-4C82-940F-695C257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D15A-5CEA-4D0D-892B-4A35C6A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8CE2-0FEA-47AD-99C4-53DF085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A51C-7B9F-458B-8BE2-C4CBCE5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A82-7E3B-4C77-841F-B9700B7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AC4B-8C27-4877-BA3F-9F7A66AE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C0EE-81BA-4552-A718-AEA13556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A92D-2A01-4A79-9471-BD955C0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F82A8-8557-48CF-AA63-B49C3582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C31-AB93-4AB9-B189-9C8C641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C0A5-5B5E-4D33-80F4-77F09045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B9260-7B37-4BEB-B2A5-CBF855D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5CF1-5F15-4EA9-9C96-9751BAC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DAF2-F283-40B6-8379-1A16114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8E07-61A8-4F85-B283-69EF996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C403-3714-498C-80F0-A98868E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FF41-E9FF-4896-A0DE-B4D1891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B386-F3DC-438F-A3C3-051955DD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02D79-FA5F-427C-B525-DFA09812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8EA3-7955-4B01-8D44-BEB8C1F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091-2D86-4472-A71F-A54C1C78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0B93-A1DC-4A78-8F46-0390858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64EF-C27A-4103-86D6-EDC4E0E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6E3D-D17A-4A41-B6BD-DC71138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2159-7E7C-4465-AA1E-61383FA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5E3B2-431E-4ECE-B38E-8B959B0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4E21-FBA0-4D1E-8855-DB3B724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1723-7911-4958-8C89-07BB967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D86E-7773-4555-848D-B7EBF3A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25E2-1542-4618-AF0D-C8610915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F0D1-2432-4BE2-BFF5-B70291AA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ECA-B0BA-40B0-BE5C-29AB2FAF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48C7-9E57-4765-A172-6B67510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164-E399-4F4A-876F-A1F74C91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FED-2A15-4630-A3DD-737372F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097-B481-4F88-886C-97CD49C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372-CD64-4FA3-A330-FAF2C051E0EB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916-47B1-4429-93EC-7FEAD5A9B49F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938F-F99A-44D1-A416-AC1AB2B9940A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1F6-A8CA-40DB-B7AC-0F7CF0D50895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B2B-A8B5-42B8-AC39-EB022C7DC623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peus = matka: aik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 = s :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im.:  Auto kulkee 300km  6 tunnissa.  Mikä on auton nopeu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4" name="Picture 6" descr="j0212957"/>
          <p:cNvPicPr/>
          <p:nvPr/>
        </p:nvPicPr>
        <p:blipFill>
          <a:blip r:embed="rId2"/>
          <a:stretch/>
        </p:blipFill>
        <p:spPr>
          <a:xfrm>
            <a:off x="6400800" y="4800600"/>
            <a:ext cx="2743200" cy="17226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97"/>
          <p:cNvGrpSpPr/>
          <p:nvPr/>
        </p:nvGrpSpPr>
        <p:grpSpPr>
          <a:xfrm>
            <a:off x="5943600" y="228600"/>
            <a:ext cx="2895480" cy="2438280"/>
            <a:chOff x="5943600" y="228600"/>
            <a:chExt cx="2895480" cy="2438280"/>
          </a:xfrm>
        </p:grpSpPr>
        <p:sp>
          <p:nvSpPr>
            <p:cNvPr id="216" name="AutoShape 98"/>
            <p:cNvSpPr/>
            <p:nvPr/>
          </p:nvSpPr>
          <p:spPr>
            <a:xfrm>
              <a:off x="5943600" y="2286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7" name="Text Box 99"/>
            <p:cNvSpPr/>
            <p:nvPr/>
          </p:nvSpPr>
          <p:spPr>
            <a:xfrm>
              <a:off x="7162560" y="68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s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8" name="Text Box 100"/>
            <p:cNvSpPr/>
            <p:nvPr/>
          </p:nvSpPr>
          <p:spPr>
            <a:xfrm>
              <a:off x="784836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Arial"/>
                  <a:ea typeface="Arial"/>
                </a:rPr>
                <a:t>t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9" name="Text Box 101"/>
            <p:cNvSpPr/>
            <p:nvPr/>
          </p:nvSpPr>
          <p:spPr>
            <a:xfrm>
              <a:off x="640080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0" name="Line 102"/>
            <p:cNvSpPr/>
            <p:nvPr/>
          </p:nvSpPr>
          <p:spPr>
            <a:xfrm>
              <a:off x="6705360" y="16002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221" name="Tekstikehys 10"/>
          <p:cNvSpPr/>
          <p:nvPr/>
        </p:nvSpPr>
        <p:spPr>
          <a:xfrm>
            <a:off x="2369160" y="58672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37 0.00857 C -0.61128 0.06829 -0.95903 0.12824 -1.09201 0.15139 C -1.225 0.17454 -1.06927 0.14861 -1.06094 0.14815 C -1.05295 0.14769 -1.04618 0.14815 -1.04201 0.14815 E">
                                      <p:cBhvr>
                                        <p:cTn id="30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Jos aika-matka-koordinatistoon piirretty kuvaaja kaartuu , on kyseessä kiihtyvä liik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graphpaper2"/>
          <p:cNvPicPr/>
          <p:nvPr/>
        </p:nvPicPr>
        <p:blipFill>
          <a:blip r:embed="rId1"/>
          <a:stretch/>
        </p:blipFill>
        <p:spPr>
          <a:xfrm>
            <a:off x="2743200" y="0"/>
            <a:ext cx="5927760" cy="59436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258" name="Arc 18"/>
          <p:cNvSpPr/>
          <p:nvPr/>
        </p:nvSpPr>
        <p:spPr>
          <a:xfrm flipV="1">
            <a:off x="2743200" y="837720"/>
            <a:ext cx="1371600" cy="5029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9" name="Tekstikehys 13"/>
          <p:cNvSpPr/>
          <p:nvPr/>
        </p:nvSpPr>
        <p:spPr>
          <a:xfrm>
            <a:off x="7101360" y="6019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Aika (s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0" name="Tekstikehys 14"/>
          <p:cNvSpPr/>
          <p:nvPr/>
        </p:nvSpPr>
        <p:spPr>
          <a:xfrm>
            <a:off x="2133720" y="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Matka (m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1" name="Ellipsi 15"/>
          <p:cNvSpPr/>
          <p:nvPr/>
        </p:nvSpPr>
        <p:spPr>
          <a:xfrm>
            <a:off x="4038480" y="121932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2" name="Ellipsi 16"/>
          <p:cNvSpPr/>
          <p:nvPr/>
        </p:nvSpPr>
        <p:spPr>
          <a:xfrm>
            <a:off x="3886200" y="320040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3" name="Ellipsi 17"/>
          <p:cNvSpPr/>
          <p:nvPr/>
        </p:nvSpPr>
        <p:spPr>
          <a:xfrm>
            <a:off x="3581280" y="449568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4" name="Ellipsi 18"/>
          <p:cNvSpPr/>
          <p:nvPr/>
        </p:nvSpPr>
        <p:spPr>
          <a:xfrm>
            <a:off x="3200400" y="53341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5" name="Ellipsi 19"/>
          <p:cNvSpPr/>
          <p:nvPr/>
        </p:nvSpPr>
        <p:spPr>
          <a:xfrm>
            <a:off x="2743200" y="5791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uvaile oheista liikett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68" name="Picture 4" descr="CH11_06c"/>
          <p:cNvPicPr/>
          <p:nvPr/>
        </p:nvPicPr>
        <p:blipFill>
          <a:blip r:embed="rId2"/>
          <a:srcRect l="13164" t="17301" r="2631" b="15143"/>
          <a:stretch/>
        </p:blipFill>
        <p:spPr>
          <a:xfrm>
            <a:off x="3886200" y="30481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365040" y="3460680"/>
            <a:ext cx="2835360" cy="33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0-8 s, tasainen nopeus: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v =25 m/s)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8-12 s, ei liikettä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12-16 s, kiihtyvä liike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16-20 s, tasainen nopeus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0" name="Tekstikehys 6"/>
          <p:cNvSpPr/>
          <p:nvPr/>
        </p:nvSpPr>
        <p:spPr>
          <a:xfrm>
            <a:off x="4182840" y="2971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1" name="Tekstikehys 7"/>
          <p:cNvSpPr/>
          <p:nvPr/>
        </p:nvSpPr>
        <p:spPr>
          <a:xfrm>
            <a:off x="7929000" y="59436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onstant speed graph dvst"/>
          <p:cNvPicPr/>
          <p:nvPr/>
        </p:nvPicPr>
        <p:blipFill>
          <a:blip r:embed="rId2"/>
          <a:srcRect l="8236" t="6352" r="1805" b="13340"/>
          <a:stretch/>
        </p:blipFill>
        <p:spPr>
          <a:xfrm>
            <a:off x="2590920" y="2666880"/>
            <a:ext cx="4267080" cy="2590920"/>
          </a:xfrm>
          <a:prstGeom prst="rect">
            <a:avLst/>
          </a:prstGeom>
          <a:ln w="0">
            <a:noFill/>
          </a:ln>
        </p:spPr>
      </p:pic>
      <p:sp>
        <p:nvSpPr>
          <p:cNvPr id="274" name="Tekstikehys 3"/>
          <p:cNvSpPr/>
          <p:nvPr/>
        </p:nvSpPr>
        <p:spPr>
          <a:xfrm>
            <a:off x="6944400" y="472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5" name="Tekstikehys 5"/>
          <p:cNvSpPr/>
          <p:nvPr/>
        </p:nvSpPr>
        <p:spPr>
          <a:xfrm>
            <a:off x="2658600" y="22096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accelgraph"/>
          <p:cNvPicPr/>
          <p:nvPr/>
        </p:nvPicPr>
        <p:blipFill>
          <a:blip r:embed="rId1"/>
          <a:srcRect l="7502" t="13692" r="3751" b="13244"/>
          <a:stretch/>
        </p:blipFill>
        <p:spPr>
          <a:xfrm>
            <a:off x="2590920" y="2438280"/>
            <a:ext cx="5410080" cy="3276720"/>
          </a:xfrm>
          <a:prstGeom prst="rect">
            <a:avLst/>
          </a:prstGeom>
          <a:ln w="0">
            <a:noFill/>
          </a:ln>
        </p:spPr>
      </p:pic>
      <p:sp>
        <p:nvSpPr>
          <p:cNvPr id="277" name="Tekstikehys 3"/>
          <p:cNvSpPr/>
          <p:nvPr/>
        </p:nvSpPr>
        <p:spPr>
          <a:xfrm>
            <a:off x="2362320" y="1905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atka 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8" name="Tekstikehys 4"/>
          <p:cNvSpPr/>
          <p:nvPr/>
        </p:nvSpPr>
        <p:spPr>
          <a:xfrm>
            <a:off x="8011440" y="5181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9" name="Tekstikehys 6"/>
          <p:cNvSpPr/>
          <p:nvPr/>
        </p:nvSpPr>
        <p:spPr>
          <a:xfrm>
            <a:off x="647640" y="533520"/>
            <a:ext cx="72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ahoma"/>
              </a:rPr>
              <a:t>Kiihtyvä liike aika-matka-koordinaatistossa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decelgraph"/>
          <p:cNvPicPr/>
          <p:nvPr/>
        </p:nvPicPr>
        <p:blipFill>
          <a:blip r:embed="rId1"/>
          <a:srcRect l="4449" t="6112" r="1115" b="5346"/>
          <a:stretch/>
        </p:blipFill>
        <p:spPr>
          <a:xfrm>
            <a:off x="1600200" y="182880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281" name="Tekstikehys 4"/>
          <p:cNvSpPr/>
          <p:nvPr/>
        </p:nvSpPr>
        <p:spPr>
          <a:xfrm>
            <a:off x="624240" y="609480"/>
            <a:ext cx="76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ahoma"/>
              </a:rPr>
              <a:t>Hidastuva liike aika-matka-koordinaatistossa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2" name="Tekstikehys 5"/>
          <p:cNvSpPr/>
          <p:nvPr/>
        </p:nvSpPr>
        <p:spPr>
          <a:xfrm>
            <a:off x="1363320" y="13716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3" name="Tekstikehys 6"/>
          <p:cNvSpPr/>
          <p:nvPr/>
        </p:nvSpPr>
        <p:spPr>
          <a:xfrm>
            <a:off x="7858800" y="6095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sain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peuden kuvaaja on  vaakasuora aika- nopeus-koordinaatistossa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dastuvan  kuvaaja on laskeva suo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ihtyvän liikkeen kuvaaja on nouseva suo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Tekstikehys 4"/>
          <p:cNvSpPr/>
          <p:nvPr/>
        </p:nvSpPr>
        <p:spPr>
          <a:xfrm>
            <a:off x="-269280" y="533520"/>
            <a:ext cx="92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Liikkeen kuvaaja aika-nopeus-koordinaatistossa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spvstimeofacceleration"/>
          <p:cNvPicPr/>
          <p:nvPr/>
        </p:nvPicPr>
        <p:blipFill>
          <a:blip r:embed="rId2"/>
          <a:srcRect l="17162" t="11782" r="0" b="12451"/>
          <a:stretch/>
        </p:blipFill>
        <p:spPr>
          <a:xfrm>
            <a:off x="685800" y="1752480"/>
            <a:ext cx="317196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spdvstimedeceleration"/>
          <p:cNvPicPr/>
          <p:nvPr/>
        </p:nvPicPr>
        <p:blipFill>
          <a:blip r:embed="rId3"/>
          <a:srcRect l="9973" t="11782" r="0" b="10772"/>
          <a:stretch/>
        </p:blipFill>
        <p:spPr>
          <a:xfrm>
            <a:off x="5029200" y="1981080"/>
            <a:ext cx="3438360" cy="3505320"/>
          </a:xfrm>
          <a:prstGeom prst="rect">
            <a:avLst/>
          </a:prstGeom>
          <a:ln w="0">
            <a:noFill/>
          </a:ln>
        </p:spPr>
      </p:pic>
      <p:sp>
        <p:nvSpPr>
          <p:cNvPr id="289" name="Tekstikehys 5"/>
          <p:cNvSpPr/>
          <p:nvPr/>
        </p:nvSpPr>
        <p:spPr>
          <a:xfrm>
            <a:off x="889200" y="175248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ahoma"/>
              </a:rPr>
              <a:t>Nopeus(m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0" name="Tekstikehys 7"/>
          <p:cNvSpPr/>
          <p:nvPr/>
        </p:nvSpPr>
        <p:spPr>
          <a:xfrm>
            <a:off x="5080320" y="19810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ahoma"/>
              </a:rPr>
              <a:t>Nopeus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1" name="Tekstikehys 8"/>
          <p:cNvSpPr/>
          <p:nvPr/>
        </p:nvSpPr>
        <p:spPr>
          <a:xfrm>
            <a:off x="3052440" y="4876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2" name="Tekstikehys 9"/>
          <p:cNvSpPr/>
          <p:nvPr/>
        </p:nvSpPr>
        <p:spPr>
          <a:xfrm>
            <a:off x="7700400" y="52578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</a:t>
            </a: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3" name="Tekstikehys 10"/>
          <p:cNvSpPr/>
          <p:nvPr/>
        </p:nvSpPr>
        <p:spPr>
          <a:xfrm>
            <a:off x="439920" y="571500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Kiihtyvä liike, 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nopeus kasvaa tasaisesti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4" name="Tekstikehys 11"/>
          <p:cNvSpPr/>
          <p:nvPr/>
        </p:nvSpPr>
        <p:spPr>
          <a:xfrm>
            <a:off x="5290200" y="5791320"/>
            <a:ext cx="39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Alussa tasainen nopeus, 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lopussa hidastuva nopeus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iihtyvyys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opeuden muuto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ik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peuden muutos  ∆v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ika  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∆v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äkiauton nopeus huipilla  10m/s.  Kahden sekunnin kuluttua se on mäen alaosassa ja sen nopeus on 26m/s.  Laske mäkiauton kiihtyvyy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5448240" y="3076560"/>
            <a:ext cx="26672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nopeus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mat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i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v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300km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6 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v = 50km/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kiihtyvyys = nopeuden muutos:ai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26m/s – 10m/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 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16m/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8m/s/s  =  8m/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Kuinka pitkän matkan lentokone kulkee,  jos se lentää  nopeudella 800km/h  9  tuntia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  Kuinka kauan laivalta kestää kulkea   500 km  matka, jos sen  nopeus on  50km/h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5" name="Picture 4" descr="ybxdbars[1]"/>
          <p:cNvPicPr/>
          <p:nvPr/>
        </p:nvPicPr>
        <p:blipFill>
          <a:blip r:embed="rId2"/>
          <a:stretch/>
        </p:blipFill>
        <p:spPr>
          <a:xfrm>
            <a:off x="5486400" y="2514600"/>
            <a:ext cx="1676520" cy="110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3sh0tien[1]"/>
          <p:cNvPicPr/>
          <p:nvPr/>
        </p:nvPicPr>
        <p:blipFill>
          <a:blip r:embed="rId3"/>
          <a:stretch/>
        </p:blipFill>
        <p:spPr>
          <a:xfrm>
            <a:off x="6238800" y="4781520"/>
            <a:ext cx="8571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75 L -0.775 0.16389 E">
                                      <p:cBhvr>
                                        <p:cTn id="9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375 0.02223 E">
                                      <p:cBhvr>
                                        <p:cTn id="106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) s= v t 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=800 km/h </a:t>
            </a:r>
            <a:r>
              <a:rPr b="0" lang="en-US" sz="4000" spc="-1" strike="noStrike" baseline="40000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9h  =  7200km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647720" indent="-7426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5000"/>
              <a:buFont typeface="Book Antiqu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500km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50km/h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10 h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iirrä vihkoosi seuraavan liikkeen kuvaaj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(s)               s (m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4   10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21     1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2286000" y="2057400"/>
            <a:ext cx="460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2" name="Tekstikehys 4"/>
          <p:cNvSpPr/>
          <p:nvPr/>
        </p:nvSpPr>
        <p:spPr>
          <a:xfrm>
            <a:off x="1085040" y="525780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Vaaka-akselille tulee aika ja pystyakselille matka </a:t>
            </a: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!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graphpaper2"/>
          <p:cNvPicPr/>
          <p:nvPr/>
        </p:nvPicPr>
        <p:blipFill>
          <a:blip r:embed="rId1"/>
          <a:stretch/>
        </p:blipFill>
        <p:spPr>
          <a:xfrm>
            <a:off x="2895480" y="0"/>
            <a:ext cx="5927760" cy="5943600"/>
          </a:xfrm>
          <a:prstGeom prst="rect">
            <a:avLst/>
          </a:prstGeom>
          <a:ln w="0">
            <a:noFill/>
          </a:ln>
        </p:spPr>
      </p:pic>
      <p:sp>
        <p:nvSpPr>
          <p:cNvPr id="234" name="Line 14"/>
          <p:cNvSpPr/>
          <p:nvPr/>
        </p:nvSpPr>
        <p:spPr>
          <a:xfrm flipV="1">
            <a:off x="2895480" y="3504960"/>
            <a:ext cx="3429000" cy="23619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5" name="Ellipsi 10"/>
          <p:cNvSpPr/>
          <p:nvPr/>
        </p:nvSpPr>
        <p:spPr>
          <a:xfrm>
            <a:off x="2819520" y="5791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6" name="Ellipsi 11"/>
          <p:cNvSpPr/>
          <p:nvPr/>
        </p:nvSpPr>
        <p:spPr>
          <a:xfrm>
            <a:off x="3886200" y="495288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7" name="Ellipsi 22"/>
          <p:cNvSpPr/>
          <p:nvPr/>
        </p:nvSpPr>
        <p:spPr>
          <a:xfrm>
            <a:off x="4952880" y="426708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8" name="Suora yhdysviiva 24"/>
          <p:cNvSpPr/>
          <p:nvPr/>
        </p:nvSpPr>
        <p:spPr>
          <a:xfrm flipH="1">
            <a:off x="3962520" y="57150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9" name="Suora yhdysviiva 27"/>
          <p:cNvSpPr/>
          <p:nvPr/>
        </p:nvSpPr>
        <p:spPr>
          <a:xfrm flipH="1">
            <a:off x="5029200" y="57150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0" name="Suora yhdysviiva 28"/>
          <p:cNvSpPr/>
          <p:nvPr/>
        </p:nvSpPr>
        <p:spPr>
          <a:xfrm flipH="1">
            <a:off x="6095520" y="571500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1" name="Ellipsi 30"/>
          <p:cNvSpPr/>
          <p:nvPr/>
        </p:nvSpPr>
        <p:spPr>
          <a:xfrm>
            <a:off x="6019920" y="3505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2" name="Tekstikehys 31"/>
          <p:cNvSpPr/>
          <p:nvPr/>
        </p:nvSpPr>
        <p:spPr>
          <a:xfrm>
            <a:off x="373356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3" name="Tekstikehys 33"/>
          <p:cNvSpPr/>
          <p:nvPr/>
        </p:nvSpPr>
        <p:spPr>
          <a:xfrm>
            <a:off x="4798440" y="6095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4" name="Tekstikehys 34"/>
          <p:cNvSpPr/>
          <p:nvPr/>
        </p:nvSpPr>
        <p:spPr>
          <a:xfrm>
            <a:off x="5941440" y="6095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21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5" name="Suora yhdysviiva 37"/>
          <p:cNvSpPr/>
          <p:nvPr/>
        </p:nvSpPr>
        <p:spPr>
          <a:xfrm flipH="1" flipV="1">
            <a:off x="2819520" y="51055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6" name="Suora yhdysviiva 40"/>
          <p:cNvSpPr/>
          <p:nvPr/>
        </p:nvSpPr>
        <p:spPr>
          <a:xfrm flipH="1" flipV="1">
            <a:off x="2819520" y="4419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7" name="Suora yhdysviiva 41"/>
          <p:cNvSpPr/>
          <p:nvPr/>
        </p:nvSpPr>
        <p:spPr>
          <a:xfrm flipH="1" flipV="1">
            <a:off x="2743200" y="3657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8" name="Tekstikehys 43"/>
          <p:cNvSpPr/>
          <p:nvPr/>
        </p:nvSpPr>
        <p:spPr>
          <a:xfrm>
            <a:off x="236196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9" name="Tekstikehys 44"/>
          <p:cNvSpPr/>
          <p:nvPr/>
        </p:nvSpPr>
        <p:spPr>
          <a:xfrm>
            <a:off x="213156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0" name="Tekstikehys 45"/>
          <p:cNvSpPr/>
          <p:nvPr/>
        </p:nvSpPr>
        <p:spPr>
          <a:xfrm>
            <a:off x="213156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1" name="Tekstikehys 46"/>
          <p:cNvSpPr/>
          <p:nvPr/>
        </p:nvSpPr>
        <p:spPr>
          <a:xfrm>
            <a:off x="7787160" y="6095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Aika (s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2" name="Tekstikehys 48"/>
          <p:cNvSpPr/>
          <p:nvPr/>
        </p:nvSpPr>
        <p:spPr>
          <a:xfrm>
            <a:off x="2197800" y="457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ahoma"/>
              </a:rPr>
              <a:t>Matka (m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Jos aika-matka- koordinaatistoon piirretty kuvaaja on suora, on kyseessä tasainen nopeu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asaisen liikkeen nopeus ei muutu, sen kiihtyvyys on nolla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t (s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     s (m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2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2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6:37:27Z</dcterms:created>
  <dc:creator>Student</dc:creator>
  <dc:description/>
  <dc:language>en-US</dc:language>
  <cp:lastModifiedBy>Ritva Tamminen</cp:lastModifiedBy>
  <dcterms:modified xsi:type="dcterms:W3CDTF">2009-09-14T16:11:21Z</dcterms:modified>
  <cp:revision>48</cp:revision>
  <dc:subject/>
  <dc:title>Motion</dc:title>
</cp:coreProperties>
</file>